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E249-B400-488E-8490-7C079E21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54DB-8F97-49A6-B71F-4C1C28B67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B13A-EE36-4739-8B34-3C09C07A8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4A90-BB66-49E2-A7D3-26B15E02E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52EE-D6AA-4303-B7EC-1FFF7CC91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68AC-57E5-4239-9958-26B42973E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76F7-E1D0-4B6D-B526-767DD7CF0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6FD-4FFF-469A-8419-27064A34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DFD-0A0B-46C0-9469-C6C3A57C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47B-13A5-451C-AF97-2DCAEE87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7F6C-56D5-4523-8C6D-80F3362E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785-1B3F-462C-8675-CF3E4CE1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A34-3767-495D-A6FE-015B2A70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151-768F-47D6-A78F-72159A99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ADF-9B03-4146-84B6-EF4A0C38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3B2-26A4-44A6-960F-E5E9415C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12B-87E4-41AC-B3FA-11D142E0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8B1-A447-420C-A8C5-45CDAF5E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1668-DB8A-4F24-B484-CB4071B7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E328-E055-4198-8E04-7B117342E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 203A section 74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Chan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. Julie Libarkin, Nicole LaDue: IN-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et Dr. Duncan Sibley 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SYLLABUS is posted on ANGEL – READ I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HYBRID! Lectures are ONLINE. Activities for one hour in each week IN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for completing activities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Homework: TWO types on ANG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LECTURE: Due weekly BEFORE each class meeting.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CLASS: Due weekly three days after class - SUNDAYS.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Exams: Two in-class exams and a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Reservo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movement and/or change of matter as it moves through the water cyc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efine residence time and predict how a system is impacted by changes in residence ti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 is i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en energy in the system is balanc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ter moves and changes to return a system t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. What are the phases of water as it resides in various places in the water cyc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watercyclesummary.jpg"/>
          <p:cNvPicPr/>
          <p:nvPr/>
        </p:nvPicPr>
        <p:blipFill>
          <a:blip r:embed="rId1"/>
          <a:stretch/>
        </p:blipFill>
        <p:spPr>
          <a:xfrm>
            <a:off x="1371600" y="1419120"/>
            <a:ext cx="6591240" cy="457524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533520" y="6019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Liquid &amp; Solid: precipitation, surface water, ground water, clouds; Gas: atmosphe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2" name="Picture 4" descr="FIGURESCIRCACTIVITY.png"/>
          <p:cNvPicPr/>
          <p:nvPr/>
        </p:nvPicPr>
        <p:blipFill>
          <a:blip r:embed="rId1"/>
          <a:srcRect l="7001" t="0" r="0" b="9332"/>
          <a:stretch/>
        </p:blipFill>
        <p:spPr>
          <a:xfrm>
            <a:off x="1066680" y="990720"/>
            <a:ext cx="7010640" cy="5126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3058920" y="50292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512160" y="17524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982960" y="236232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ecip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919880" y="53341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un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765440" y="175248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ond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058560" y="54100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Surfac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2296800" y="63961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Groun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3585960" y="44956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e7"/>
                </a:solidFill>
                <a:latin typeface="Arial"/>
                <a:ea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3588840" y="2666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e7"/>
                </a:solidFill>
                <a:latin typeface="Arial"/>
                <a:ea typeface="Arial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1074240" y="54100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e7"/>
                </a:solidFill>
                <a:latin typeface="Arial"/>
                <a:ea typeface="Arial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1683720" y="21337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e7"/>
                </a:solidFill>
                <a:latin typeface="Arial"/>
                <a:ea typeface="Arial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Reservoir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1"/>
          <a:stretch/>
        </p:blipFill>
        <p:spPr>
          <a:xfrm>
            <a:off x="378000" y="1139760"/>
            <a:ext cx="8540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20:20:21Z</dcterms:created>
  <dc:creator>Julie Libarkin</dc:creator>
  <dc:description/>
  <dc:language>en-US</dc:language>
  <cp:lastModifiedBy>Nicole LaDue</cp:lastModifiedBy>
  <dcterms:modified xsi:type="dcterms:W3CDTF">2011-01-21T01:04:28Z</dcterms:modified>
  <cp:revision>303</cp:revision>
  <dc:subject/>
  <dc:title>PowerPoint Presentation</dc:title>
</cp:coreProperties>
</file>